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jungle.wav" ContentType="audio/x-wav"/>
  <Override PartName="/ppt/media/image6.png" ContentType="image/png"/>
  <Override PartName="/ppt/media/MEOW.WAV" ContentType="audio/x-wav"/>
  <Override PartName="/ppt/media/image7.png" ContentType="image/png"/>
  <Override PartName="/ppt/media/drawing-board.wav" ContentType="audio/x-wav"/>
  <Override PartName="/ppt/media/image9.png" ContentType="image/png"/>
  <Override PartName="/ppt/media/image8.png" ContentType="image/png"/>
  <Override PartName="/ppt/media/HALLELU.WAV" ContentType="audio/x-wav"/>
  <Override PartName="/ppt/media/image17.png" ContentType="image/png"/>
  <Override PartName="/ppt/media/justas-thought.wav" ContentType="audio/x-wav"/>
  <Override PartName="/ppt/media/image2.png" ContentType="image/png"/>
  <Override PartName="/ppt/media/image1.png" ContentType="image/png"/>
  <Override PartName="/ppt/media/behappy.wav" ContentType="audio/x-wav"/>
  <Override PartName="/ppt/media/image11.png" ContentType="image/png"/>
  <Override PartName="/ppt/media/image12.png" ContentType="image/png"/>
  <Override PartName="/ppt/media/bee.wav" ContentType="audio/x-wav"/>
  <Override PartName="/ppt/media/checkthisout.wav" ContentType="audio/x-wav"/>
  <Override PartName="/ppt/media/canbetaught.wav" ContentType="audio/x-wav"/>
  <Override PartName="/ppt/media/image13.png" ContentType="image/png"/>
  <Override PartName="/ppt/media/image14.png" ContentType="image/png"/>
  <Override PartName="/ppt/media/image15.gif" ContentType="image/gif"/>
  <Override PartName="/ppt/media/12-1234.wav" ContentType="audio/x-wav"/>
  <Override PartName="/ppt/media/image16.gif" ContentType="image/gif"/>
  <Override PartName="/ppt/media/image19.png" ContentType="image/png"/>
  <Override PartName="/ppt/media/cuckoo.wav" ContentType="audio/x-wav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465-CE54-442A-9456-DDE6D043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485-B8B5-4784-8383-65C7DFDE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A82-B491-4910-8B5B-3A0F9B71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FF4-4692-4BA6-AAA7-893BC1C0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D79-3131-4397-A3F8-C0408E95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686-F3EA-4B78-A8AC-D5FD2B41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1D7-2408-49C6-883B-85793121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469-63E6-49A6-BBA3-366725D4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B92-E69E-4C13-ACAE-C4335EFF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10C-8B66-4889-B92C-F6202564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C03-81E8-4976-AD33-6017017E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E4A-2D9D-4CD9-9205-2149ADB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1569-11BA-487A-AEA0-631F5C479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drawing-boar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nbetaught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audio" Target="../media/be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audio" Target="../media/12-1234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audio" Target="../media/cuckoo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jungl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MEOW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audio" Target="../media/checkthisout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LLELU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justas-though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600200" y="2438280"/>
            <a:ext cx="6458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Make It Multiply!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Picture 3" descr="C:\clipart\classroom\bar-school.gif"/>
          <p:cNvPicPr/>
          <p:nvPr/>
        </p:nvPicPr>
        <p:blipFill>
          <a:blip r:embed="rId1"/>
          <a:stretch/>
        </p:blipFill>
        <p:spPr>
          <a:xfrm>
            <a:off x="2133720" y="3352680"/>
            <a:ext cx="494964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123360" y="5029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Jimmy Do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clipart\classroom\crayons1x.gif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clipart\classroom\crayons1x.gif"/>
          <p:cNvPicPr/>
          <p:nvPr/>
        </p:nvPicPr>
        <p:blipFill>
          <a:blip r:embed="rId2"/>
          <a:stretch/>
        </p:blipFill>
        <p:spPr>
          <a:xfrm>
            <a:off x="4876920" y="2514600"/>
            <a:ext cx="3598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5944680" y="24382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716080" y="129528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716440" y="388620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56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C:\clipart\classroom\crayons1x.gif"/>
          <p:cNvPicPr/>
          <p:nvPr/>
        </p:nvPicPr>
        <p:blipFill>
          <a:blip r:embed="rId1"/>
          <a:stretch/>
        </p:blipFill>
        <p:spPr>
          <a:xfrm>
            <a:off x="380880" y="1066680"/>
            <a:ext cx="250056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clipart\classroom\crayons1x.gif"/>
          <p:cNvPicPr/>
          <p:nvPr/>
        </p:nvPicPr>
        <p:blipFill>
          <a:blip r:embed="rId2"/>
          <a:stretch/>
        </p:blipFill>
        <p:spPr>
          <a:xfrm>
            <a:off x="2438280" y="2971800"/>
            <a:ext cx="25005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teacher has 3 books and there are 5 teachers, how many books do they all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C:\clipart\classroom\booksstackedx.gif"/>
          <p:cNvPicPr/>
          <p:nvPr/>
        </p:nvPicPr>
        <p:blipFill>
          <a:blip r:embed="rId1"/>
          <a:stretch/>
        </p:blipFill>
        <p:spPr>
          <a:xfrm>
            <a:off x="1676520" y="2666880"/>
            <a:ext cx="49496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C:\clipart\classroom\booksstackedx.gif"/>
          <p:cNvPicPr/>
          <p:nvPr/>
        </p:nvPicPr>
        <p:blipFill>
          <a:blip r:embed="rId1"/>
          <a:stretch/>
        </p:blipFill>
        <p:spPr>
          <a:xfrm>
            <a:off x="609480" y="26668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clipart\classroom\booksstackedx.gif"/>
          <p:cNvPicPr/>
          <p:nvPr/>
        </p:nvPicPr>
        <p:blipFill>
          <a:blip r:embed="rId2"/>
          <a:stretch/>
        </p:blipFill>
        <p:spPr>
          <a:xfrm>
            <a:off x="4724280" y="480060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clipart\classroom\booksstackedx.gif"/>
          <p:cNvPicPr/>
          <p:nvPr/>
        </p:nvPicPr>
        <p:blipFill>
          <a:blip r:embed="rId3"/>
          <a:stretch/>
        </p:blipFill>
        <p:spPr>
          <a:xfrm>
            <a:off x="1905120" y="47242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clipart\classroom\booksstackedx.gif"/>
          <p:cNvPicPr/>
          <p:nvPr/>
        </p:nvPicPr>
        <p:blipFill>
          <a:blip r:embed="rId4"/>
          <a:stretch/>
        </p:blipFill>
        <p:spPr>
          <a:xfrm>
            <a:off x="3200400" y="259092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clipart\classroom\booksstackedx.gif"/>
          <p:cNvPicPr/>
          <p:nvPr/>
        </p:nvPicPr>
        <p:blipFill>
          <a:blip r:embed="rId5"/>
          <a:stretch/>
        </p:blipFill>
        <p:spPr>
          <a:xfrm>
            <a:off x="5715000" y="25146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:\clipart\classroom\teach.gif"/>
          <p:cNvPicPr/>
          <p:nvPr/>
        </p:nvPicPr>
        <p:blipFill>
          <a:blip r:embed="rId6"/>
          <a:stretch/>
        </p:blipFill>
        <p:spPr>
          <a:xfrm>
            <a:off x="7772400" y="228600"/>
            <a:ext cx="982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716440" y="243828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716440" y="129528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716080" y="3886200"/>
            <a:ext cx="27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9543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9" descr="C:\clipart\classroom\booksstackedx.gif"/>
          <p:cNvPicPr/>
          <p:nvPr/>
        </p:nvPicPr>
        <p:blipFill>
          <a:blip r:embed="rId1"/>
          <a:stretch/>
        </p:blipFill>
        <p:spPr>
          <a:xfrm>
            <a:off x="380880" y="2819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C:\clipart\classroom\booksstackedx.gif"/>
          <p:cNvPicPr/>
          <p:nvPr/>
        </p:nvPicPr>
        <p:blipFill>
          <a:blip r:embed="rId2"/>
          <a:stretch/>
        </p:blipFill>
        <p:spPr>
          <a:xfrm>
            <a:off x="1447920" y="45720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:\clipart\classroom\booksstackedx.gif"/>
          <p:cNvPicPr/>
          <p:nvPr/>
        </p:nvPicPr>
        <p:blipFill>
          <a:blip r:embed="rId3"/>
          <a:stretch/>
        </p:blipFill>
        <p:spPr>
          <a:xfrm>
            <a:off x="228600" y="6094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clipart\classroom\booksstackedx.gif"/>
          <p:cNvPicPr/>
          <p:nvPr/>
        </p:nvPicPr>
        <p:blipFill>
          <a:blip r:embed="rId4"/>
          <a:stretch/>
        </p:blipFill>
        <p:spPr>
          <a:xfrm>
            <a:off x="2590920" y="27432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C:\clipart\classroom\booksstackedx.gif"/>
          <p:cNvPicPr/>
          <p:nvPr/>
        </p:nvPicPr>
        <p:blipFill>
          <a:blip r:embed="rId5"/>
          <a:stretch/>
        </p:blipFill>
        <p:spPr>
          <a:xfrm>
            <a:off x="2209680" y="609480"/>
            <a:ext cx="22100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desk has 1 apple and there are 9 desks, how many apples are there in all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2" descr="C:\clipart\classroom\appledesk.gif"/>
          <p:cNvPicPr/>
          <p:nvPr/>
        </p:nvPicPr>
        <p:blipFill>
          <a:blip r:embed="rId1"/>
          <a:stretch/>
        </p:blipFill>
        <p:spPr>
          <a:xfrm>
            <a:off x="2514600" y="2819520"/>
            <a:ext cx="444672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3" descr="C:\clipart\classroom\appledesk.gif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C:\clipart\classroom\appledesk.gif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clipart\classroom\appledesk.gif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C:\clipart\classroom\appledesk.gif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C:\clipart\classroom\appledesk.gif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C:\clipart\classroom\appledesk.gif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C:\clipart\classroom\appledesk.gif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C:\clipart\classroom\appledesk.gif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C:\clipart\classroom\appledesk.gif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3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4" descr="C:\clipart\Emotions\goofed.gif"/>
          <p:cNvPicPr/>
          <p:nvPr/>
        </p:nvPicPr>
        <p:blipFill>
          <a:blip r:embed="rId10"/>
          <a:stretch/>
        </p:blipFill>
        <p:spPr>
          <a:xfrm>
            <a:off x="304920" y="281952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clipart\classroom\appledesk.gif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clipart\classroom\appledesk.gif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clipart\classroom\appledesk.gif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clipart\classroom\appledesk.gif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clipart\classroom\appledesk.gif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clipart\classroom\appledesk.gif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clipart\classroom\appledesk.gif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clipart\classroom\appledesk.gif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clipart\classroom\appledesk.gif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3"/>
          <p:cNvSpPr/>
          <p:nvPr/>
        </p:nvSpPr>
        <p:spPr>
          <a:xfrm>
            <a:off x="674280" y="198108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674280" y="327672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de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750600" y="4724280"/>
            <a:ext cx="25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ap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228600" y="4495680"/>
            <a:ext cx="3048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153720" y="3276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8" descr="C:\clipart\Emotions\goofed.gif"/>
          <p:cNvPicPr/>
          <p:nvPr/>
        </p:nvPicPr>
        <p:blipFill>
          <a:blip r:embed="rId10"/>
          <a:stretch/>
        </p:blipFill>
        <p:spPr>
          <a:xfrm>
            <a:off x="4038480" y="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2"/>
          <p:cNvSpPr/>
          <p:nvPr/>
        </p:nvSpPr>
        <p:spPr>
          <a:xfrm>
            <a:off x="609480" y="7621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ltiplication involves se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bjects.  Can you write a multiplcation problem for these se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3" descr="C:\clipart\Emotions\surprise1x.gif"/>
          <p:cNvPicPr/>
          <p:nvPr/>
        </p:nvPicPr>
        <p:blipFill>
          <a:blip r:embed="rId1"/>
          <a:stretch/>
        </p:blipFill>
        <p:spPr>
          <a:xfrm>
            <a:off x="5867280" y="2666880"/>
            <a:ext cx="2846520" cy="45151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4"/>
          <p:cNvSpPr/>
          <p:nvPr/>
        </p:nvSpPr>
        <p:spPr>
          <a:xfrm>
            <a:off x="2057400" y="3581280"/>
            <a:ext cx="3733920" cy="2210040"/>
          </a:xfrm>
          <a:prstGeom prst="wedgeEllipseCallout">
            <a:avLst>
              <a:gd name="adj1" fmla="val 65263"/>
              <a:gd name="adj2" fmla="val 63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think I can do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lipart\creatures\2fish.gif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clipart\creatures\2fish.gif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clipart\creatures\2fish.gif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clipart\creatures\2fish.gif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clipart\creatures\2fish.gif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anbetaugh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52760" y="606600"/>
            <a:ext cx="84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my had 3 cats and each one had 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, how could we find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 all the cats h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C:\clipart\people\boy-girl.gif"/>
          <p:cNvPicPr/>
          <p:nvPr/>
        </p:nvPicPr>
        <p:blipFill>
          <a:blip r:embed="rId1"/>
          <a:srcRect l="49409" t="0" r="-28012" b="-55340"/>
          <a:stretch/>
        </p:blipFill>
        <p:spPr>
          <a:xfrm>
            <a:off x="838080" y="2819520"/>
            <a:ext cx="194148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clipart\creatures\cat4.gif"/>
          <p:cNvPicPr/>
          <p:nvPr/>
        </p:nvPicPr>
        <p:blipFill>
          <a:blip r:embed="rId2"/>
          <a:stretch/>
        </p:blipFill>
        <p:spPr>
          <a:xfrm>
            <a:off x="2819520" y="25909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clipart\creatures\cat5.jpg"/>
          <p:cNvPicPr/>
          <p:nvPr/>
        </p:nvPicPr>
        <p:blipFill>
          <a:blip r:embed="rId3"/>
          <a:stretch/>
        </p:blipFill>
        <p:spPr>
          <a:xfrm>
            <a:off x="5867280" y="2666880"/>
            <a:ext cx="2260800" cy="201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clipart\creatures\cat7.jpg"/>
          <p:cNvPicPr/>
          <p:nvPr/>
        </p:nvPicPr>
        <p:blipFill>
          <a:blip r:embed="rId4"/>
          <a:stretch/>
        </p:blipFill>
        <p:spPr>
          <a:xfrm>
            <a:off x="4114800" y="4800600"/>
            <a:ext cx="226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clipart\creatures\2fish.gif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clipart\creatures\2fish.gif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:\clipart\creatures\2fish.gif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clipart\creatures\2fish.gif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clipart\creatures\2fish.gif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429720" y="4800600"/>
            <a:ext cx="29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2 =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clipart\creatures\bee1.gif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clipart\creatures\bee1.gif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clipart\creatures\bee1.gif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:\clipart\creatures\bee1.gif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:\clipart\creatures\bee1.gif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clipart\creatures\bee1.gif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clipart\creatures\bee1.gif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C:\clipart\creatures\bee1.gif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clipart\creatures\bee1.gif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C:\clipart\creatures\bee1.gif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:\clipart\creatures\bee1.gif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C:\clipart\creatures\bee1.gif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4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clipart\creatures\bee1.gif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clipart\creatures\bee1.gif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clipart\creatures\bee1.gif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clipart\creatures\bee1.gif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:\clipart\creatures\bee1.gif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:\clipart\creatures\bee1.gif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C:\clipart\creatures\bee1.gif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C:\clipart\creatures\bee1.gif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:\clipart\creatures\bee1.gif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C:\clipart\creatures\bee1.gif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C:\clipart\creatures\bee1.gif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C:\clipart\creatures\bee1.gif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4"/>
          <p:cNvSpPr/>
          <p:nvPr/>
        </p:nvSpPr>
        <p:spPr>
          <a:xfrm>
            <a:off x="3426120" y="48006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4 =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3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C:\clipart\animated gifs\band2c.gif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clipart\animated gifs\band2c.gif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clipart\animated gifs\band2c.gif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clipart\animated gifs\band2c.gif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clipart\animated gifs\band2c.gif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clipart\animated gifs\band2c.gif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083040" y="48006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4" name="12-1234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C:\clipart\animated gifs\clock.gif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C:\clipart\animated gifs\clock.gif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:\clipart\animated gifs\clock.gif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C:\clipart\animated gifs\clock.gif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clipart\animated gifs\clock.gif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C:\clipart\animated gifs\clock.gif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C:\clipart\animated gifs\clock.gif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C:\clipart\animated gifs\clock.gif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4"/>
          <p:cNvSpPr/>
          <p:nvPr/>
        </p:nvSpPr>
        <p:spPr>
          <a:xfrm>
            <a:off x="381240" y="19051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clipart\animated gifs\clock.gif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clipart\animated gifs\clock.gif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clipart\animated gifs\clock.gif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clipart\animated gifs\clock.gif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clipart\animated gifs\clock.gif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clipart\animated gifs\clock.gif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C:\clipart\animated gifs\clock.gif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clipart\animated gifs\clock.gif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1600560" y="27432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2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9" name="cuckoo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0"/>
          <p:cNvSpPr/>
          <p:nvPr/>
        </p:nvSpPr>
        <p:spPr>
          <a:xfrm>
            <a:off x="1676520" y="3049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2" descr="C:\clipart\creatures\monkeys3.gif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C:\clipart\creatures\monkeys3.gif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C:\clipart\creatures\monkeys3.gif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C:\clipart\creatures\monkeys3.gif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C:\clipart\creatures\monkeys3.gif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C:\clipart\creatures\monkeys3.gif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C:\clipart\creatures\monkeys3.gif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clipart\creatures\monkeys3.gif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:\clipart\creatures\monkeys3.gif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clipart\creatures\monkeys3.gif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clipart\creatures\monkeys3.gif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clipart\creatures\monkeys3.gif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6 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7" name="jungl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590920" y="38088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3"/>
          <p:cNvGrpSpPr/>
          <p:nvPr/>
        </p:nvGrpSpPr>
        <p:grpSpPr>
          <a:xfrm>
            <a:off x="2819520" y="5257800"/>
            <a:ext cx="3885480" cy="532800"/>
            <a:chOff x="2819520" y="5257800"/>
            <a:chExt cx="3885480" cy="532800"/>
          </a:xfrm>
        </p:grpSpPr>
        <p:pic>
          <p:nvPicPr>
            <p:cNvPr id="220" name="Picture 34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819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5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3651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6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4484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7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545616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8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6288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39"/>
          <p:cNvGrpSpPr/>
          <p:nvPr/>
        </p:nvGrpSpPr>
        <p:grpSpPr>
          <a:xfrm>
            <a:off x="2819520" y="4267080"/>
            <a:ext cx="3885480" cy="532800"/>
            <a:chOff x="2819520" y="4267080"/>
            <a:chExt cx="3885480" cy="532800"/>
          </a:xfrm>
        </p:grpSpPr>
        <p:pic>
          <p:nvPicPr>
            <p:cNvPr id="226" name="Picture 40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2819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3651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4484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545616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6288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45"/>
          <p:cNvGrpSpPr/>
          <p:nvPr/>
        </p:nvGrpSpPr>
        <p:grpSpPr>
          <a:xfrm>
            <a:off x="2819520" y="3124080"/>
            <a:ext cx="3885480" cy="532800"/>
            <a:chOff x="2819520" y="3124080"/>
            <a:chExt cx="3885480" cy="532800"/>
          </a:xfrm>
        </p:grpSpPr>
        <p:pic>
          <p:nvPicPr>
            <p:cNvPr id="232" name="Picture 46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2819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7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3651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4484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545616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6288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51"/>
          <p:cNvGrpSpPr/>
          <p:nvPr/>
        </p:nvGrpSpPr>
        <p:grpSpPr>
          <a:xfrm>
            <a:off x="2819520" y="1905120"/>
            <a:ext cx="3885480" cy="532440"/>
            <a:chOff x="2819520" y="1905120"/>
            <a:chExt cx="3885480" cy="532440"/>
          </a:xfrm>
        </p:grpSpPr>
        <p:pic>
          <p:nvPicPr>
            <p:cNvPr id="238" name="Picture 52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2819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3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3651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4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4484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5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545616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5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6288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clipart\creatures\cat4.gif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clipart\creatures\cat5.jpg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clipart\creatures\cat7.jpg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354120" y="4572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430440" y="243828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506760" y="43434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048120" y="54100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82720" y="556272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973600" y="43434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3"/>
          <p:cNvGrpSpPr/>
          <p:nvPr/>
        </p:nvGrpSpPr>
        <p:grpSpPr>
          <a:xfrm>
            <a:off x="2666880" y="5257800"/>
            <a:ext cx="3885480" cy="532800"/>
            <a:chOff x="2666880" y="5257800"/>
            <a:chExt cx="3885480" cy="532800"/>
          </a:xfrm>
        </p:grpSpPr>
        <p:pic>
          <p:nvPicPr>
            <p:cNvPr id="244" name="Picture 4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666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3499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6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4331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7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5303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8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6136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9"/>
          <p:cNvGrpSpPr/>
          <p:nvPr/>
        </p:nvGrpSpPr>
        <p:grpSpPr>
          <a:xfrm>
            <a:off x="2666880" y="4267080"/>
            <a:ext cx="3885480" cy="532800"/>
            <a:chOff x="2666880" y="4267080"/>
            <a:chExt cx="3885480" cy="532800"/>
          </a:xfrm>
        </p:grpSpPr>
        <p:pic>
          <p:nvPicPr>
            <p:cNvPr id="250" name="Picture 10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2666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3499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4331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5303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6136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15"/>
          <p:cNvGrpSpPr/>
          <p:nvPr/>
        </p:nvGrpSpPr>
        <p:grpSpPr>
          <a:xfrm>
            <a:off x="2666880" y="3124080"/>
            <a:ext cx="3885480" cy="532800"/>
            <a:chOff x="2666880" y="3124080"/>
            <a:chExt cx="3885480" cy="532800"/>
          </a:xfrm>
        </p:grpSpPr>
        <p:pic>
          <p:nvPicPr>
            <p:cNvPr id="256" name="Picture 16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2666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7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3499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4331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5303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2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6136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21"/>
          <p:cNvGrpSpPr/>
          <p:nvPr/>
        </p:nvGrpSpPr>
        <p:grpSpPr>
          <a:xfrm>
            <a:off x="2666880" y="1905120"/>
            <a:ext cx="3885480" cy="532440"/>
            <a:chOff x="2666880" y="1905120"/>
            <a:chExt cx="3885480" cy="532440"/>
          </a:xfrm>
        </p:grpSpPr>
        <p:pic>
          <p:nvPicPr>
            <p:cNvPr id="262" name="Picture 22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2666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3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3499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4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4331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5303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6136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Text Box 27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4 = 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 your paper, draw sets to represent each of the following multiplication problems.  Then solve the problems.  Click on the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find the answer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" descr="C:\clipart\icons\bookques.gif"/>
          <p:cNvPicPr/>
          <p:nvPr/>
        </p:nvPicPr>
        <p:blipFill>
          <a:blip r:embed="rId1"/>
          <a:stretch/>
        </p:blipFill>
        <p:spPr>
          <a:xfrm>
            <a:off x="7162920" y="373392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2"/>
          <p:cNvSpPr/>
          <p:nvPr/>
        </p:nvSpPr>
        <p:spPr>
          <a:xfrm>
            <a:off x="4582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38196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34600" y="44956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48016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80168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4878000" y="45720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8" descr="C:\clipart\icons\bookques.gif"/>
          <p:cNvPicPr/>
          <p:nvPr/>
        </p:nvPicPr>
        <p:blipFill>
          <a:blip r:embed="rId1"/>
          <a:stretch/>
        </p:blipFill>
        <p:spPr>
          <a:xfrm>
            <a:off x="2514600" y="533520"/>
            <a:ext cx="1523880" cy="680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9" descr="C:\clipart\icons\bookques.gif"/>
          <p:cNvPicPr/>
          <p:nvPr/>
        </p:nvPicPr>
        <p:blipFill>
          <a:blip r:embed="rId2"/>
          <a:stretch/>
        </p:blipFill>
        <p:spPr>
          <a:xfrm>
            <a:off x="2438280" y="274320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0" descr="C:\clipart\icons\bookques.gif"/>
          <p:cNvPicPr/>
          <p:nvPr/>
        </p:nvPicPr>
        <p:blipFill>
          <a:blip r:embed="rId3"/>
          <a:stretch/>
        </p:blipFill>
        <p:spPr>
          <a:xfrm>
            <a:off x="2666880" y="47242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1" descr="C:\clipart\icons\bookques.gif"/>
          <p:cNvPicPr/>
          <p:nvPr/>
        </p:nvPicPr>
        <p:blipFill>
          <a:blip r:embed="rId4"/>
          <a:stretch/>
        </p:blipFill>
        <p:spPr>
          <a:xfrm>
            <a:off x="7086600" y="60948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2" descr="C:\clipart\icons\bookques.gif"/>
          <p:cNvPicPr/>
          <p:nvPr/>
        </p:nvPicPr>
        <p:blipFill>
          <a:blip r:embed="rId5"/>
          <a:stretch/>
        </p:blipFill>
        <p:spPr>
          <a:xfrm>
            <a:off x="7010280" y="26668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3" descr="C:\clipart\icons\bookques.gif"/>
          <p:cNvPicPr/>
          <p:nvPr/>
        </p:nvPicPr>
        <p:blipFill>
          <a:blip r:embed="rId6"/>
          <a:stretch/>
        </p:blipFill>
        <p:spPr>
          <a:xfrm>
            <a:off x="7086600" y="464832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eckthisou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430080" y="6094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18"/>
          <p:cNvGrpSpPr/>
          <p:nvPr/>
        </p:nvGrpSpPr>
        <p:grpSpPr>
          <a:xfrm>
            <a:off x="876240" y="1752480"/>
            <a:ext cx="7696440" cy="685800"/>
            <a:chOff x="876240" y="1752480"/>
            <a:chExt cx="7696440" cy="685800"/>
          </a:xfrm>
        </p:grpSpPr>
        <p:pic>
          <p:nvPicPr>
            <p:cNvPr id="284" name="Picture 9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876240" y="17906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0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7924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1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167652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12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251460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3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3352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4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42670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5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51814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6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60958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7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70102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Group 19"/>
          <p:cNvGrpSpPr/>
          <p:nvPr/>
        </p:nvGrpSpPr>
        <p:grpSpPr>
          <a:xfrm>
            <a:off x="914400" y="2971800"/>
            <a:ext cx="7695720" cy="685800"/>
            <a:chOff x="914400" y="2971800"/>
            <a:chExt cx="7695720" cy="685800"/>
          </a:xfrm>
        </p:grpSpPr>
        <p:pic>
          <p:nvPicPr>
            <p:cNvPr id="294" name="Picture 20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914400" y="30099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21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7962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22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171432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3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55240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4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3390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5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43048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6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52192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7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61336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8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70480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AutoShape 29"/>
          <p:cNvSpPr/>
          <p:nvPr/>
        </p:nvSpPr>
        <p:spPr>
          <a:xfrm>
            <a:off x="3200400" y="43434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0"/>
          <p:cNvSpPr/>
          <p:nvPr/>
        </p:nvSpPr>
        <p:spPr>
          <a:xfrm>
            <a:off x="3187080" y="6238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106776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9"/>
          <p:cNvGrpSpPr/>
          <p:nvPr/>
        </p:nvGrpSpPr>
        <p:grpSpPr>
          <a:xfrm>
            <a:off x="380880" y="1219320"/>
            <a:ext cx="4038840" cy="685800"/>
            <a:chOff x="380880" y="1219320"/>
            <a:chExt cx="4038840" cy="685800"/>
          </a:xfrm>
        </p:grpSpPr>
        <p:pic>
          <p:nvPicPr>
            <p:cNvPr id="307" name="Picture 10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380880" y="12574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2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118116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3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201924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4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28573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5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37717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Group 20"/>
          <p:cNvGrpSpPr/>
          <p:nvPr/>
        </p:nvGrpSpPr>
        <p:grpSpPr>
          <a:xfrm>
            <a:off x="380880" y="2133720"/>
            <a:ext cx="4038840" cy="685800"/>
            <a:chOff x="380880" y="2133720"/>
            <a:chExt cx="4038840" cy="685800"/>
          </a:xfrm>
        </p:grpSpPr>
        <p:pic>
          <p:nvPicPr>
            <p:cNvPr id="313" name="Picture 21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380880" y="21718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2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118116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23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201924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4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28573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5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37717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26"/>
          <p:cNvGrpSpPr/>
          <p:nvPr/>
        </p:nvGrpSpPr>
        <p:grpSpPr>
          <a:xfrm>
            <a:off x="380880" y="3124080"/>
            <a:ext cx="4038840" cy="685800"/>
            <a:chOff x="380880" y="3124080"/>
            <a:chExt cx="4038840" cy="685800"/>
          </a:xfrm>
        </p:grpSpPr>
        <p:pic>
          <p:nvPicPr>
            <p:cNvPr id="319" name="Picture 27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380880" y="31622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8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118116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9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01924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30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28573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31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37717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32"/>
          <p:cNvGrpSpPr/>
          <p:nvPr/>
        </p:nvGrpSpPr>
        <p:grpSpPr>
          <a:xfrm>
            <a:off x="380880" y="4114800"/>
            <a:ext cx="4038840" cy="685800"/>
            <a:chOff x="380880" y="4114800"/>
            <a:chExt cx="4038840" cy="685800"/>
          </a:xfrm>
        </p:grpSpPr>
        <p:pic>
          <p:nvPicPr>
            <p:cNvPr id="325" name="Picture 33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380880" y="41529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34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118116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35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201924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6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28573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7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37717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38"/>
          <p:cNvGrpSpPr/>
          <p:nvPr/>
        </p:nvGrpSpPr>
        <p:grpSpPr>
          <a:xfrm>
            <a:off x="380880" y="5105520"/>
            <a:ext cx="4038840" cy="685800"/>
            <a:chOff x="380880" y="5105520"/>
            <a:chExt cx="4038840" cy="685800"/>
          </a:xfrm>
        </p:grpSpPr>
        <p:pic>
          <p:nvPicPr>
            <p:cNvPr id="331" name="Picture 39" descr="C:\clipart\items\animmultball.gif"/>
            <p:cNvPicPr/>
            <p:nvPr/>
          </p:nvPicPr>
          <p:blipFill>
            <a:blip r:embed="rId21"/>
            <a:stretch/>
          </p:blipFill>
          <p:spPr>
            <a:xfrm>
              <a:off x="380880" y="51436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0" descr="C:\clipart\items\animmultball.gif"/>
            <p:cNvPicPr/>
            <p:nvPr/>
          </p:nvPicPr>
          <p:blipFill>
            <a:blip r:embed="rId22"/>
            <a:stretch/>
          </p:blipFill>
          <p:spPr>
            <a:xfrm>
              <a:off x="118116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1" descr="C:\clipart\items\animmultball.gif"/>
            <p:cNvPicPr/>
            <p:nvPr/>
          </p:nvPicPr>
          <p:blipFill>
            <a:blip r:embed="rId23"/>
            <a:stretch/>
          </p:blipFill>
          <p:spPr>
            <a:xfrm>
              <a:off x="201924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42" descr="C:\clipart\items\animmultball.gif"/>
            <p:cNvPicPr/>
            <p:nvPr/>
          </p:nvPicPr>
          <p:blipFill>
            <a:blip r:embed="rId24"/>
            <a:stretch/>
          </p:blipFill>
          <p:spPr>
            <a:xfrm>
              <a:off x="28573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43" descr="C:\clipart\items\animmultball.gif"/>
            <p:cNvPicPr/>
            <p:nvPr/>
          </p:nvPicPr>
          <p:blipFill>
            <a:blip r:embed="rId25"/>
            <a:stretch/>
          </p:blipFill>
          <p:spPr>
            <a:xfrm>
              <a:off x="37717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AutoShape 44"/>
          <p:cNvSpPr/>
          <p:nvPr/>
        </p:nvSpPr>
        <p:spPr>
          <a:xfrm>
            <a:off x="5410080" y="22860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5"/>
          <p:cNvSpPr/>
          <p:nvPr/>
        </p:nvSpPr>
        <p:spPr>
          <a:xfrm>
            <a:off x="5565240" y="46483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5"/>
          <p:cNvSpPr/>
          <p:nvPr/>
        </p:nvSpPr>
        <p:spPr>
          <a:xfrm>
            <a:off x="32014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16" descr="C:\clipart\items\animmultball.gif"/>
          <p:cNvPicPr/>
          <p:nvPr/>
        </p:nvPicPr>
        <p:blipFill>
          <a:blip r:embed="rId1"/>
          <a:stretch/>
        </p:blipFill>
        <p:spPr>
          <a:xfrm>
            <a:off x="876240" y="179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C:\clipart\items\animmultball.gif"/>
          <p:cNvPicPr/>
          <p:nvPr/>
        </p:nvPicPr>
        <p:blipFill>
          <a:blip r:embed="rId2"/>
          <a:stretch/>
        </p:blipFill>
        <p:spPr>
          <a:xfrm>
            <a:off x="16765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9" descr="C:\clipart\items\animmultball.gif"/>
          <p:cNvPicPr/>
          <p:nvPr/>
        </p:nvPicPr>
        <p:blipFill>
          <a:blip r:embed="rId3"/>
          <a:stretch/>
        </p:blipFill>
        <p:spPr>
          <a:xfrm>
            <a:off x="251460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0" descr="C:\clipart\items\animmultball.gif"/>
          <p:cNvPicPr/>
          <p:nvPr/>
        </p:nvPicPr>
        <p:blipFill>
          <a:blip r:embed="rId4"/>
          <a:stretch/>
        </p:blipFill>
        <p:spPr>
          <a:xfrm>
            <a:off x="33526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1" descr="C:\clipart\items\animmultball.gif"/>
          <p:cNvPicPr/>
          <p:nvPr/>
        </p:nvPicPr>
        <p:blipFill>
          <a:blip r:embed="rId5"/>
          <a:stretch/>
        </p:blipFill>
        <p:spPr>
          <a:xfrm>
            <a:off x="42670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2" descr="C:\clipart\items\animmultball.gif"/>
          <p:cNvPicPr/>
          <p:nvPr/>
        </p:nvPicPr>
        <p:blipFill>
          <a:blip r:embed="rId6"/>
          <a:stretch/>
        </p:blipFill>
        <p:spPr>
          <a:xfrm>
            <a:off x="51814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C:\clipart\items\animmultball.gif"/>
          <p:cNvPicPr/>
          <p:nvPr/>
        </p:nvPicPr>
        <p:blipFill>
          <a:blip r:embed="rId7"/>
          <a:stretch/>
        </p:blipFill>
        <p:spPr>
          <a:xfrm>
            <a:off x="60958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C:\clipart\items\animmultball.gif"/>
          <p:cNvPicPr/>
          <p:nvPr/>
        </p:nvPicPr>
        <p:blipFill>
          <a:blip r:embed="rId8"/>
          <a:stretch/>
        </p:blipFill>
        <p:spPr>
          <a:xfrm>
            <a:off x="7010280" y="175248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25"/>
          <p:cNvSpPr/>
          <p:nvPr/>
        </p:nvSpPr>
        <p:spPr>
          <a:xfrm>
            <a:off x="2971800" y="289548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6"/>
          <p:cNvSpPr/>
          <p:nvPr/>
        </p:nvSpPr>
        <p:spPr>
          <a:xfrm>
            <a:off x="3050640" y="5257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6"/>
          <p:cNvSpPr/>
          <p:nvPr/>
        </p:nvSpPr>
        <p:spPr>
          <a:xfrm>
            <a:off x="320148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0" descr="C:\clipart\items\animmultball.gif"/>
          <p:cNvPicPr/>
          <p:nvPr/>
        </p:nvPicPr>
        <p:blipFill>
          <a:blip r:embed="rId1"/>
          <a:stretch/>
        </p:blipFill>
        <p:spPr>
          <a:xfrm>
            <a:off x="18288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C:\clipart\items\animmultball.gif"/>
          <p:cNvPicPr/>
          <p:nvPr/>
        </p:nvPicPr>
        <p:blipFill>
          <a:blip r:embed="rId2"/>
          <a:stretch/>
        </p:blipFill>
        <p:spPr>
          <a:xfrm>
            <a:off x="32004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C:\clipart\items\animmultball.gif"/>
          <p:cNvPicPr/>
          <p:nvPr/>
        </p:nvPicPr>
        <p:blipFill>
          <a:blip r:embed="rId3"/>
          <a:stretch/>
        </p:blipFill>
        <p:spPr>
          <a:xfrm>
            <a:off x="4495680" y="16765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C:\clipart\items\animmultball.gif"/>
          <p:cNvPicPr/>
          <p:nvPr/>
        </p:nvPicPr>
        <p:blipFill>
          <a:blip r:embed="rId4"/>
          <a:stretch/>
        </p:blipFill>
        <p:spPr>
          <a:xfrm>
            <a:off x="59436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C:\clipart\items\animmultball.gif"/>
          <p:cNvPicPr/>
          <p:nvPr/>
        </p:nvPicPr>
        <p:blipFill>
          <a:blip r:embed="rId5"/>
          <a:stretch/>
        </p:blipFill>
        <p:spPr>
          <a:xfrm>
            <a:off x="7315200" y="16765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9"/>
          <p:cNvSpPr/>
          <p:nvPr/>
        </p:nvSpPr>
        <p:spPr>
          <a:xfrm>
            <a:off x="2971800" y="27432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3050640" y="51055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7"/>
          <p:cNvSpPr/>
          <p:nvPr/>
        </p:nvSpPr>
        <p:spPr>
          <a:xfrm>
            <a:off x="312516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9"/>
          <p:cNvSpPr/>
          <p:nvPr/>
        </p:nvSpPr>
        <p:spPr>
          <a:xfrm>
            <a:off x="2819520" y="1828800"/>
            <a:ext cx="2819160" cy="1905120"/>
          </a:xfrm>
          <a:custGeom>
            <a:avLst/>
            <a:gdLst>
              <a:gd name="textAreaLeft" fmla="*/ 123480 w 2819160"/>
              <a:gd name="textAreaRight" fmla="*/ 2695680 w 281916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1" h="21600">
                <a:moveTo>
                  <a:pt x="0" y="0"/>
                </a:moveTo>
                <a:lnTo>
                  <a:pt x="31961" y="0"/>
                </a:lnTo>
                <a:lnTo>
                  <a:pt x="31961" y="21600"/>
                </a:lnTo>
                <a:lnTo>
                  <a:pt x="0" y="21600"/>
                </a:lnTo>
                <a:close/>
              </a:path>
              <a:path fill="lightenLess" w="31961" h="21600">
                <a:moveTo>
                  <a:pt x="0" y="0"/>
                </a:moveTo>
                <a:lnTo>
                  <a:pt x="31961" y="0"/>
                </a:lnTo>
                <a:lnTo>
                  <a:pt x="30561" y="1400"/>
                </a:lnTo>
                <a:lnTo>
                  <a:pt x="1400" y="1400"/>
                </a:lnTo>
                <a:close/>
              </a:path>
              <a:path fill="darken" w="31961" h="21600">
                <a:moveTo>
                  <a:pt x="31961" y="0"/>
                </a:moveTo>
                <a:lnTo>
                  <a:pt x="31961" y="21600"/>
                </a:lnTo>
                <a:lnTo>
                  <a:pt x="30561" y="20200"/>
                </a:lnTo>
                <a:lnTo>
                  <a:pt x="30561" y="1400"/>
                </a:lnTo>
                <a:close/>
              </a:path>
              <a:path fill="darkenLess" w="31961" h="21600">
                <a:moveTo>
                  <a:pt x="31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1" y="20200"/>
                </a:lnTo>
                <a:close/>
              </a:path>
              <a:path fill="lighten" w="31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1" h="21600">
                <a:moveTo>
                  <a:pt x="8974" y="10800"/>
                </a:moveTo>
                <a:lnTo>
                  <a:pt x="22987" y="3794"/>
                </a:lnTo>
                <a:lnTo>
                  <a:pt x="2298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2822040" y="42670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327780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19"/>
          <p:cNvGrpSpPr/>
          <p:nvPr/>
        </p:nvGrpSpPr>
        <p:grpSpPr>
          <a:xfrm>
            <a:off x="2057400" y="1752480"/>
            <a:ext cx="4952520" cy="685800"/>
            <a:chOff x="2057400" y="1752480"/>
            <a:chExt cx="4952520" cy="685800"/>
          </a:xfrm>
        </p:grpSpPr>
        <p:pic>
          <p:nvPicPr>
            <p:cNvPr id="362" name="Picture 10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057400" y="17906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2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285732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13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369540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4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45334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5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54478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6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63622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Group 20"/>
          <p:cNvGrpSpPr/>
          <p:nvPr/>
        </p:nvGrpSpPr>
        <p:grpSpPr>
          <a:xfrm>
            <a:off x="2057400" y="3124080"/>
            <a:ext cx="4952520" cy="685800"/>
            <a:chOff x="2057400" y="3124080"/>
            <a:chExt cx="4952520" cy="685800"/>
          </a:xfrm>
        </p:grpSpPr>
        <p:pic>
          <p:nvPicPr>
            <p:cNvPr id="369" name="Picture 2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2057400" y="31622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2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285732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2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369540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2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45334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25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54478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6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63622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Group 27"/>
          <p:cNvGrpSpPr/>
          <p:nvPr/>
        </p:nvGrpSpPr>
        <p:grpSpPr>
          <a:xfrm>
            <a:off x="2133720" y="4343400"/>
            <a:ext cx="4952520" cy="685800"/>
            <a:chOff x="2133720" y="4343400"/>
            <a:chExt cx="4952520" cy="685800"/>
          </a:xfrm>
        </p:grpSpPr>
        <p:pic>
          <p:nvPicPr>
            <p:cNvPr id="376" name="Picture 2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133720" y="4381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293364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3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377172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31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46098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32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55242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33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64386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34"/>
          <p:cNvGrpSpPr/>
          <p:nvPr/>
        </p:nvGrpSpPr>
        <p:grpSpPr>
          <a:xfrm>
            <a:off x="2057400" y="5486400"/>
            <a:ext cx="4952520" cy="685800"/>
            <a:chOff x="2057400" y="5486400"/>
            <a:chExt cx="4952520" cy="685800"/>
          </a:xfrm>
        </p:grpSpPr>
        <p:pic>
          <p:nvPicPr>
            <p:cNvPr id="383" name="Picture 3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2057400" y="5524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3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285732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37" descr="C:\clipart\items\animmultball.gif"/>
            <p:cNvPicPr/>
            <p:nvPr/>
          </p:nvPicPr>
          <p:blipFill>
            <a:blip r:embed="rId21"/>
            <a:stretch/>
          </p:blipFill>
          <p:spPr>
            <a:xfrm>
              <a:off x="369540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38" descr="C:\clipart\items\animmultball.gif"/>
            <p:cNvPicPr/>
            <p:nvPr/>
          </p:nvPicPr>
          <p:blipFill>
            <a:blip r:embed="rId22"/>
            <a:stretch/>
          </p:blipFill>
          <p:spPr>
            <a:xfrm>
              <a:off x="45334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39" descr="C:\clipart\items\animmultball.gif"/>
            <p:cNvPicPr/>
            <p:nvPr/>
          </p:nvPicPr>
          <p:blipFill>
            <a:blip r:embed="rId23"/>
            <a:stretch/>
          </p:blipFill>
          <p:spPr>
            <a:xfrm>
              <a:off x="54478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0" descr="C:\clipart\items\animmultball.gif"/>
            <p:cNvPicPr/>
            <p:nvPr/>
          </p:nvPicPr>
          <p:blipFill>
            <a:blip r:embed="rId24"/>
            <a:stretch/>
          </p:blipFill>
          <p:spPr>
            <a:xfrm>
              <a:off x="63622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7"/>
          <p:cNvSpPr/>
          <p:nvPr/>
        </p:nvSpPr>
        <p:spPr>
          <a:xfrm>
            <a:off x="2209680" y="0"/>
            <a:ext cx="6096240" cy="2590920"/>
          </a:xfrm>
          <a:prstGeom prst="wedgeEllipseCallout">
            <a:avLst>
              <a:gd name="adj1" fmla="val -52944"/>
              <a:gd name="adj2" fmla="val 66726"/>
            </a:avLst>
          </a:prstGeom>
          <a:solidFill>
            <a:srgbClr val="f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WordArt 2"/>
          <p:cNvSpPr txBox="1"/>
          <p:nvPr/>
        </p:nvSpPr>
        <p:spPr>
          <a:xfrm>
            <a:off x="2743200" y="609480"/>
            <a:ext cx="485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How did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you do?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669760" y="335268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do this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ain, click th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5">
            <a:hlinkClick r:id="" action="ppaction://hlinkshowjump?jump=firstslide"/>
          </p:cNvPr>
          <p:cNvSpPr/>
          <p:nvPr/>
        </p:nvSpPr>
        <p:spPr>
          <a:xfrm>
            <a:off x="3505320" y="4495680"/>
            <a:ext cx="2666880" cy="1828800"/>
          </a:xfrm>
          <a:custGeom>
            <a:avLst/>
            <a:gdLst>
              <a:gd name="textAreaLeft" fmla="*/ 118440 w 2666880"/>
              <a:gd name="textAreaRight" fmla="*/ 2548440 w 26668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1497" h="21600">
                <a:moveTo>
                  <a:pt x="0" y="0"/>
                </a:moveTo>
                <a:lnTo>
                  <a:pt x="31497" y="0"/>
                </a:lnTo>
                <a:lnTo>
                  <a:pt x="31497" y="21600"/>
                </a:lnTo>
                <a:lnTo>
                  <a:pt x="0" y="21600"/>
                </a:lnTo>
                <a:close/>
              </a:path>
              <a:path fill="lightenLess" w="31497" h="21600">
                <a:moveTo>
                  <a:pt x="0" y="0"/>
                </a:moveTo>
                <a:lnTo>
                  <a:pt x="31497" y="0"/>
                </a:lnTo>
                <a:lnTo>
                  <a:pt x="30097" y="1400"/>
                </a:lnTo>
                <a:lnTo>
                  <a:pt x="1400" y="1400"/>
                </a:lnTo>
                <a:close/>
              </a:path>
              <a:path fill="darken" w="31497" h="21600">
                <a:moveTo>
                  <a:pt x="31497" y="0"/>
                </a:moveTo>
                <a:lnTo>
                  <a:pt x="31497" y="21600"/>
                </a:lnTo>
                <a:lnTo>
                  <a:pt x="30097" y="20200"/>
                </a:lnTo>
                <a:lnTo>
                  <a:pt x="30097" y="1400"/>
                </a:lnTo>
                <a:close/>
              </a:path>
              <a:path fill="darkenLess" w="31497" h="21600">
                <a:moveTo>
                  <a:pt x="3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7" y="20200"/>
                </a:lnTo>
                <a:close/>
              </a:path>
              <a:path fill="lighten" w="3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97" h="21600">
                <a:moveTo>
                  <a:pt x="8742" y="10800"/>
                </a:moveTo>
                <a:lnTo>
                  <a:pt x="22755" y="3794"/>
                </a:lnTo>
                <a:lnTo>
                  <a:pt x="22755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6" descr="C:\clipart\Emotions\surprise1x.gif"/>
          <p:cNvPicPr/>
          <p:nvPr/>
        </p:nvPicPr>
        <p:blipFill>
          <a:blip r:embed="rId1"/>
          <a:stretch/>
        </p:blipFill>
        <p:spPr>
          <a:xfrm>
            <a:off x="838080" y="1600200"/>
            <a:ext cx="139392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HALLELU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09480" y="762120"/>
            <a:ext cx="7940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way to figure out the answer is to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ultipl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Multiplication is a fast way to add equal numbers.  Since all 3 cats have 4 legs, instead of adding them together, we could multip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clipart\creatures\cat4.gif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clipart\creatures\cat5.jpg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clipart\creatures\cat7.jpg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836520" y="457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63600" y="175248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ca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281952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582360" y="297180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201840" y="17524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50240" y="606600"/>
            <a:ext cx="72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legs altogether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boy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C:\clipart\classroom\boysfight.gif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C:\clipart\classroom\boysfight.gif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clipart\classroom\boysfight.gif"/>
          <p:cNvPicPr/>
          <p:nvPr/>
        </p:nvPicPr>
        <p:blipFill>
          <a:blip r:embed="rId1"/>
          <a:stretch/>
        </p:blipFill>
        <p:spPr>
          <a:xfrm>
            <a:off x="457200" y="685800"/>
            <a:ext cx="4708440" cy="4732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6325920" y="243828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y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351120" y="12952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7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401880" y="3886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6401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justas-thoug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50600" y="606600"/>
            <a:ext cx="754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crayon box holds 7 crayon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rayons would 2 box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C:\clipart\classroom\crayons1x.gif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clipart\classroom\crayons1x.gif"/>
          <p:cNvPicPr/>
          <p:nvPr/>
        </p:nvPicPr>
        <p:blipFill>
          <a:blip r:embed="rId2"/>
          <a:stretch/>
        </p:blipFill>
        <p:spPr>
          <a:xfrm>
            <a:off x="4724280" y="2590920"/>
            <a:ext cx="3598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5:43:41Z</dcterms:created>
  <dc:creator>Jefferson County Schools</dc:creator>
  <dc:description/>
  <dc:language>en-US</dc:language>
  <cp:lastModifiedBy>Jacki Kratz</cp:lastModifiedBy>
  <dcterms:modified xsi:type="dcterms:W3CDTF">2012-01-03T20:01:40Z</dcterms:modified>
  <cp:revision>6</cp:revision>
  <dc:subject/>
  <dc:title>PowerPoint Presentation</dc:title>
</cp:coreProperties>
</file>